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E71-7D69-4031-99E5-A93DE112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C92-AFCB-4848-A69F-CA615B74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6AD-F844-421B-9E91-B6A50607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950-6CC3-459F-908D-378D6475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564-91D4-41E1-ACEB-9B48E3E1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ACA-1E66-4DCE-90FF-98B552C2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7D7-924D-485F-89FA-888376E0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5A2-084D-4497-B53B-0911EF4D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A73-B629-4EA5-BBDD-3433A42A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6D0-3461-45C9-84CD-83635CA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6FD-11D6-4E4A-BDF7-561B264A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A9C-422C-418A-9176-81EE006C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9C92-20B0-4CC4-9B5F-804C4D8FA2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Lesson 9.7</a:t>
            </a:r>
            <a:br>
              <a:rPr sz="7500"/>
            </a:b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results from an experim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mple Spac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 list of all possible outcome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ven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 subcollection of a sample spac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likelihood an event will occu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# of favorable outcomes divided by # of possible outcom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Determine the sample space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wo coins are flippe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ick any two vowel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 deck of 52 cards is used.  Find the probability of randomly picking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black card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hear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d face card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Roll two dice.  Find the probability that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oth dice are fiv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sum on the dice is 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Page 682 </a:t>
            </a:r>
            <a:br>
              <a:rPr sz="7500"/>
            </a:b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#1-19</a:t>
            </a:r>
            <a:endParaRPr b="0" lang="en-US" sz="7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4:09Z</dcterms:created>
  <dc:creator>jnewman</dc:creator>
  <dc:description/>
  <dc:language>en-US</dc:language>
  <cp:lastModifiedBy>abeason</cp:lastModifiedBy>
  <dcterms:modified xsi:type="dcterms:W3CDTF">2010-03-19T13:41:41Z</dcterms:modified>
  <cp:revision>6</cp:revision>
  <dc:subject/>
  <dc:title>Lesson 9.7 part one</dc:title>
</cp:coreProperties>
</file>